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9768-2EC6-4259-A10E-F93596F57B6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112A-700F-46A3-9D2A-1E5251B6FB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C6C-22FB-4E33-A493-915966DF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589-D46E-4E7B-B408-8BA9701A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F66-1E43-4437-89F0-F7D47141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F5A-44EF-4D89-A955-B342B7CE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3816-6B78-405B-87D6-64217213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72E3-F786-4595-88CD-CB2AFB83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26B6-04B6-43A3-91CA-CDC37E10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A970-2550-48D9-8764-03FC9F2B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1876-EA0E-4892-9EFE-2043A490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9011-0888-4328-A403-F4AB1E53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8224-0348-4433-8BC3-6ABF781C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0FA-49B9-4D18-976B-7007E215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22C3-3EED-4C59-9733-CB2A7351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A0B1-F177-4764-A3C9-94A7EFBF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2388-AF75-4B9F-8B1A-E51C176F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4830-DA8C-4433-8514-CB496A14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4E7A-16A4-4AF0-BC65-9E6B2341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B9B97-BE67-4F29-BA54-856905C5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0D02-CB71-4873-9003-C8730F58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19E3-0E08-46DE-BB5F-4043A7E2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42CF-7DDF-4955-A94F-4D0EB80D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05B42-3051-4B26-9A22-283A2077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838-6563-4A59-B88F-6BA1AE6C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28E13-CB77-430D-A945-A8664777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72991-CC55-48A7-BD78-B6D7E79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889FC-E8DD-45D0-91AA-2C007EE5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C7F1-D72E-4DF8-9E7B-32EFF9FE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105E-366D-4AE3-974F-070C5F34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574D-3044-46D5-A07D-13C0B7B9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2AA9-2977-47A2-813A-4CB3EA7B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32CC3-D5F8-4859-8994-C5B6E5A8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CC6D8-EAA0-440F-8386-A7B4C3C3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760D-58F4-4051-8D4C-54B038EE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E84-E156-440A-80EE-61EB71D5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659A0-B4CC-449E-89D3-70904F43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D1C2-EB5E-42AB-A669-0EF73060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4D53-352F-463A-A05E-EE6DC998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D85C8-0D3D-41BF-B782-E1FE23A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3D13B-2B8E-485C-B828-A64BAF49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596B3-A46F-4ED7-B88A-61E89D59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A4CCA-D53B-4C64-8CC0-F444640D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05B06-A0B5-4734-A7FE-AACAC9A9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33658-EEBD-4B90-93CE-5ED70A6A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E14F4-3B22-47CA-9277-DE45E7B9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C64-894F-437D-B6C4-25387FD9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EC12-12B2-4E51-8F03-207CEA57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6F2F8-6D96-4D9C-BD55-9FE486F2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0B35-7C69-4535-A519-5B126D4D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5304-61CC-4433-98BD-0884211C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3CAF-3E96-4ACA-B13E-3D86E0C3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9DA21-2130-4C2D-948C-5FCB5DC2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67C01-E098-4E3B-B369-3588A52A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E64A2-D9BE-4BCA-8A67-91191969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5E993-ABBF-4FA0-8031-2A60D767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2B9EE-BF26-471A-8D9C-AF202BCF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DB7-15AF-4C8C-AE9F-B546223C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ADC6-30FD-43BA-8668-569233B6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01C-3046-445F-B088-AE079D9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4D9-82AA-425F-B9F7-28C37A5A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FAF-85E8-4564-ACA9-4BDB3D88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B916-5D92-4C33-B520-D3DD2703F60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3BA8-2711-46F8-9577-13C440AFF4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43" name="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5442-30D3-4957-AAEA-1D29F41945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90" name="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42BE-2312-4D76-920D-45ED1A8787A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914040" y="1218960"/>
            <a:ext cx="1036332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138" name="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A561-35D1-4242-9C14-0CE43F2019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185" name="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dt" idx="1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AF4E-FA0E-4577-9401-CFDA706510B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title"/>
          </p:nvPr>
        </p:nvSpPr>
        <p:spPr>
          <a:xfrm>
            <a:off x="914040" y="1218960"/>
            <a:ext cx="1036332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6152"/>
          <p:cNvSpPr/>
          <p:nvPr/>
        </p:nvSpPr>
        <p:spPr>
          <a:xfrm>
            <a:off x="2220840" y="3727440"/>
            <a:ext cx="82105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"/>
          <p:cNvSpPr/>
          <p:nvPr/>
        </p:nvSpPr>
        <p:spPr>
          <a:xfrm>
            <a:off x="4921200" y="202896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Arial"/>
                <a:ea typeface="微软雅黑"/>
              </a:rPr>
              <a:t>竹节人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9"/>
          <p:cNvSpPr/>
          <p:nvPr/>
        </p:nvSpPr>
        <p:spPr>
          <a:xfrm>
            <a:off x="598680" y="792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第二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1598760" y="1598760"/>
            <a:ext cx="8985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那一段时间，妈妈怪我总是把毛笔弄丢，而校门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卖毛笔的老头儿则生意特别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2239920" y="3192480"/>
            <a:ext cx="60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微软雅黑"/>
              </a:rPr>
              <a:t>说说这句的言外之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598680" y="792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第二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2671920" y="1015920"/>
            <a:ext cx="85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从哪些地方能看出斗竹节人的游戏非常好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496960" y="1901880"/>
            <a:ext cx="72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斗竹节人的“古战场”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871640" y="2685960"/>
            <a:ext cx="101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教室里的课桌破旧得看不出年纪，桌面上是一道道豁开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裂缝，像黄河长江，一不小心，铅笔就从裂缝里掉下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9"/>
          <p:cNvSpPr/>
          <p:nvPr/>
        </p:nvSpPr>
        <p:spPr>
          <a:xfrm>
            <a:off x="598680" y="792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第二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363680" y="1262160"/>
            <a:ext cx="65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竹节人的样子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395360" y="1959120"/>
            <a:ext cx="1034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静立不动的样子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叉腿张胳膊、威风凛凛、呆头呆脑的傻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动起来的样子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手舞之、身摆之、没头没脑地对打着，不知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倦，也永不会倒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1" descr="045"/>
          <p:cNvPicPr/>
          <p:nvPr/>
        </p:nvPicPr>
        <p:blipFill>
          <a:blip r:embed="rId1"/>
          <a:srcRect l="41265" t="1500" r="1744" b="67018"/>
          <a:stretch/>
        </p:blipFill>
        <p:spPr>
          <a:xfrm>
            <a:off x="7924680" y="3276720"/>
            <a:ext cx="42674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598680" y="792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第二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768240" y="124776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竹节人的装饰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595440" y="2160720"/>
            <a:ext cx="10594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在竹节人手上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微软雅黑"/>
              </a:rPr>
              <a:t>系上一根冰棍棒儿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就成了孙悟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金箍棒；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微软雅黑"/>
              </a:rPr>
              <a:t>找到两根针织机上废弃的钩针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装在竹节人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上，就成了窦尔敦的虎头双钩；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微软雅黑"/>
              </a:rPr>
              <a:t>用铅皮剪一把偃月刀，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微软雅黑"/>
              </a:rPr>
              <a:t>铁丝系一缕红丝线做一柄蛇矛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；还有同学别出心裁，给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竹节人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微软雅黑"/>
              </a:rPr>
              <a:t>粘上一个橡皮擦雕就的脑袋，做了一顶纸盔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9"/>
          <p:cNvSpPr/>
          <p:nvPr/>
        </p:nvSpPr>
        <p:spPr>
          <a:xfrm>
            <a:off x="628560" y="907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第三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609480" y="1712880"/>
            <a:ext cx="11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默读第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18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9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自然段，想一想，围绕着竹节人发生了怎样的趣事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042"/>
          <p:cNvPicPr/>
          <p:nvPr/>
        </p:nvPicPr>
        <p:blipFill>
          <a:blip r:embed="rId1"/>
          <a:srcRect l="7869" t="53256" r="59602" b="17367"/>
          <a:stretch/>
        </p:blipFill>
        <p:spPr>
          <a:xfrm>
            <a:off x="0" y="2476440"/>
            <a:ext cx="522432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9"/>
          <p:cNvSpPr/>
          <p:nvPr/>
        </p:nvSpPr>
        <p:spPr>
          <a:xfrm>
            <a:off x="628560" y="907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第三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278000" y="1511280"/>
            <a:ext cx="97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微软雅黑"/>
              </a:rPr>
              <a:t>从哪儿可以看出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微软雅黑"/>
              </a:rPr>
              <a:t>我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”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微软雅黑"/>
              </a:rPr>
              <a:t>和同学们对玩竹节人的痴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62080" y="2322360"/>
            <a:ext cx="1152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）下课时，教室里摆开场子，吸引了一圈黒脑袋，攒着观看，还跺脚拍手，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咋呼呼，好不热闹，常要等老师进来，才知道已经上课，便一哄而作鸟兽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 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）上课了，意兴依然不减，手痒痒的，将课本竖在面前，当作屏风，跟同桌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课桌上又搏将起来，这会儿，嘴里不便“咚锵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）偏偏后面的同学不知趣，看得入了迷，伸长脖子，恨不能从我们肩膀上探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来，被那虎视眈眈的老师看出了破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9"/>
          <p:cNvSpPr/>
          <p:nvPr/>
        </p:nvSpPr>
        <p:spPr>
          <a:xfrm>
            <a:off x="700200" y="7920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课文第三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262160" y="1655640"/>
            <a:ext cx="78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老师对竹节人的态度又有着怎样的变化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843120" y="2876400"/>
            <a:ext cx="55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虎视眈眈、大步流星、怒气冲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523880" y="2771640"/>
            <a:ext cx="28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下箭头 13"/>
          <p:cNvSpPr/>
          <p:nvPr/>
        </p:nvSpPr>
        <p:spPr>
          <a:xfrm rot="16200000">
            <a:off x="6413400" y="2915640"/>
            <a:ext cx="576360" cy="503280"/>
          </a:xfrm>
          <a:prstGeom prst="downArrow">
            <a:avLst>
              <a:gd name="adj1" fmla="val 50000"/>
              <a:gd name="adj2" fmla="val 33190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7272360" y="28306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全神贯注，忘乎所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9"/>
          <p:cNvSpPr/>
          <p:nvPr/>
        </p:nvSpPr>
        <p:spPr>
          <a:xfrm>
            <a:off x="598680" y="792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写作特色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174680" y="1976400"/>
            <a:ext cx="1079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、具有夸张色彩的语句，让文章生动有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、语言幽默，耐人寻味，暗含言外之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思想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420840" y="1962000"/>
            <a:ext cx="107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微软雅黑"/>
              </a:rPr>
              <a:t>小小的竹节人，是作者美美的回忆，表达了作者对童年生活的眷恋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045"/>
          <p:cNvPicPr/>
          <p:nvPr/>
        </p:nvPicPr>
        <p:blipFill>
          <a:blip r:embed="rId1"/>
          <a:srcRect l="41265" t="1500" r="1744" b="67018"/>
          <a:stretch/>
        </p:blipFill>
        <p:spPr>
          <a:xfrm>
            <a:off x="7924680" y="2928960"/>
            <a:ext cx="426744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布置作业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174680" y="1409760"/>
            <a:ext cx="1079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 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、课后生字词要书写美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 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、写一段介绍玩具或讲述玩具带给你乐趣的往事，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目自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文导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4897440" y="966960"/>
            <a:ext cx="27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9.</a:t>
            </a: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竹节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8" descr="t01d48da5220bad0a0f"/>
          <p:cNvPicPr/>
          <p:nvPr/>
        </p:nvPicPr>
        <p:blipFill>
          <a:blip r:embed="rId1"/>
          <a:stretch/>
        </p:blipFill>
        <p:spPr>
          <a:xfrm>
            <a:off x="0" y="1806480"/>
            <a:ext cx="5776920" cy="5051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042"/>
          <p:cNvPicPr/>
          <p:nvPr/>
        </p:nvPicPr>
        <p:blipFill>
          <a:blip r:embed="rId2"/>
          <a:srcRect l="7869" t="53256" r="59602" b="17367"/>
          <a:stretch/>
        </p:blipFill>
        <p:spPr>
          <a:xfrm>
            <a:off x="6504120" y="1954080"/>
            <a:ext cx="5688000" cy="490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简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876240" y="17272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范锡林笔名雪凌，江苏靖江人。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1968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年，赴靖江市靖南村插队务农，后历任靖江团结中学教师，靖江中学教师，靖江市文联副主席，专业作家。作者的武侠小说独树一帜，独创一格，十分有新意。近年来主要致力于少年传奇小说和童话作品的创作，并有“范锡林少年大传奇系列”出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t01839d1daf0cbf1887"/>
          <p:cNvPicPr/>
          <p:nvPr/>
        </p:nvPicPr>
        <p:blipFill>
          <a:blip r:embed="rId1"/>
          <a:stretch/>
        </p:blipFill>
        <p:spPr>
          <a:xfrm>
            <a:off x="7948440" y="1762200"/>
            <a:ext cx="3721320" cy="46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文导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5246640" y="2744640"/>
            <a:ext cx="664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作者的童年虽然没有我们现在所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的精美的玩具，但自制的竹节人却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了作者无限的乐趣，竹节人是作者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好的回忆，甜美的情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042"/>
          <p:cNvPicPr/>
          <p:nvPr/>
        </p:nvPicPr>
        <p:blipFill>
          <a:blip r:embed="rId1"/>
          <a:srcRect l="7869" t="53256" r="59602" b="17367"/>
          <a:stretch/>
        </p:blipFill>
        <p:spPr>
          <a:xfrm>
            <a:off x="0" y="1954080"/>
            <a:ext cx="5688000" cy="4903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9"/>
          <p:cNvSpPr/>
          <p:nvPr/>
        </p:nvSpPr>
        <p:spPr>
          <a:xfrm>
            <a:off x="4897440" y="966960"/>
            <a:ext cx="27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9.</a:t>
            </a: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竹节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042"/>
          <p:cNvPicPr/>
          <p:nvPr/>
        </p:nvPicPr>
        <p:blipFill>
          <a:blip r:embed="rId1"/>
          <a:srcRect l="7869" t="53256" r="59602" b="17367"/>
          <a:stretch/>
        </p:blipFill>
        <p:spPr>
          <a:xfrm>
            <a:off x="6554880" y="1735200"/>
            <a:ext cx="5688000" cy="490356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507960" y="870120"/>
            <a:ext cx="17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学习字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41280" y="1266840"/>
            <a:ext cx="8566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蹲  风靡  俨然  破绽  颓然  沮丧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前功尽弃    挖空心思    叱咤风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别出心裁    技高一筹    弄巧成拙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作鸟兽散    虎视眈眈   津津有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忘乎所以    心满意足    化为乌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469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梳理结构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495360" y="1319040"/>
            <a:ext cx="1139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第一部分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1-2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写小时候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我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和小伙伴们都是自己做玩具，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一段时间，我们迷上了斗竹节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第二部分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-17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介绍竹节人的制作方法以及玩法，突出了斗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节人给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我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的童年带来的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第三部分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18-29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写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我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上课时偷玩竹节人，被老师发现后没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了竹节人，下课后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我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微软雅黑"/>
              </a:rPr>
              <a:t>和同桌在办公室外竟看到老师也在玩竹节人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496800" y="792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2135160" y="917640"/>
            <a:ext cx="850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微软雅黑"/>
              </a:rPr>
              <a:t>说说课文主要讲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41200" y="1903320"/>
            <a:ext cx="113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微软雅黑"/>
              </a:rPr>
              <a:t>《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微软雅黑"/>
              </a:rPr>
              <a:t>竹节人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微软雅黑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微软雅黑"/>
              </a:rPr>
              <a:t>这篇课文讲的是作者小时候和小伙伴迷上了斗竹节人的游戏，在文中，作者既写了做竹节人的方法，又介绍了斗竹节人的玩法，尤其回忆了上课时偷玩竹节人，被老师发现后没收了竹节人，我和同桌想从老师那里拿回竹节人，结果却看到老师也在玩竹节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8" descr="045"/>
          <p:cNvPicPr/>
          <p:nvPr/>
        </p:nvPicPr>
        <p:blipFill>
          <a:blip r:embed="rId1"/>
          <a:srcRect l="41265" t="1500" r="1744" b="67018"/>
          <a:stretch/>
        </p:blipFill>
        <p:spPr>
          <a:xfrm>
            <a:off x="7924680" y="2610000"/>
            <a:ext cx="4267440" cy="392904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9"/>
          <p:cNvSpPr/>
          <p:nvPr/>
        </p:nvSpPr>
        <p:spPr>
          <a:xfrm>
            <a:off x="1004760" y="792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第一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36480" y="1308240"/>
            <a:ext cx="9668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想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1.</a:t>
            </a:r>
            <a:r>
              <a:rPr b="0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从第一部分里，能知道哪些信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微软雅黑"/>
              </a:rPr>
              <a:t>这样的开头有什么好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3137040" y="4308480"/>
            <a:ext cx="6343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开门见山，直接点题，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发了读者的阅读兴趣，引出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下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2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157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9"/>
          <p:cNvSpPr/>
          <p:nvPr/>
        </p:nvSpPr>
        <p:spPr>
          <a:xfrm>
            <a:off x="514440" y="6764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读第二部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096920" y="84456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默读第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17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自然段，想一想，课文是怎样介绍竹节人的制作方法的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92040" y="1790640"/>
            <a:ext cx="7691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把毛笔竹竿锯成寸把长一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这就是竹节人的脑袋连同身躯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在上面钻一对小眼，供装手臂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再锯八截短的，分别做四肢，用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根纳鞋底线把它们穿在一起，就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了。锯的时候要小心，弄不好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微软雅黑"/>
              </a:rPr>
              <a:t>个崩裂，前功尽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042"/>
          <p:cNvPicPr/>
          <p:nvPr/>
        </p:nvPicPr>
        <p:blipFill>
          <a:blip r:embed="rId1"/>
          <a:srcRect l="7869" t="53256" r="59602" b="17367"/>
          <a:stretch/>
        </p:blipFill>
        <p:spPr>
          <a:xfrm>
            <a:off x="6794640" y="2330280"/>
            <a:ext cx="5224320" cy="45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03:05:00Z</dcterms:created>
  <dc:creator/>
  <dc:description/>
  <dc:language>en-US</dc:language>
  <cp:lastModifiedBy>微软用户</cp:lastModifiedBy>
  <dcterms:modified xsi:type="dcterms:W3CDTF">2019-07-30T01:46:08Z</dcterms:modified>
  <cp:revision>242</cp:revision>
  <dc:subject/>
  <dc:title/>
</cp:coreProperties>
</file>